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261-A77B-4584-8EA7-CFD6E4D3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00F-89E7-4674-810E-AF11DA35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39A-07A0-4073-A0AE-476DAD72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B46-6596-4DEF-849B-3C1BE31E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5BF7-446F-4FB6-8DF8-3DE0D7E2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2204-2425-42B2-91CF-B23908A0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6EB1-CAA8-4B75-92CE-4E4B2824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18B0-036C-49C6-8E15-EB629A06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9AC5-8323-46D0-BF18-79B05482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FB8E-E841-4359-8770-E86ED5FE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38BB-0A2D-46C2-B1BC-76AF4951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3AD-8DED-4236-A391-E77FEDF5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612E-6BA0-4897-9C9C-753F38AE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9738-4A33-4E04-A46D-457B44C2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DB0B-DBC8-41F4-A265-9192907C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AB0D-BA2D-4F50-9EE2-764E1877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1FF8-6CE4-4055-B2AA-C792DF70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A83-5A86-4ACA-BF34-40E4E30B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635-460F-4421-A3CB-3F8DBA45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137-2073-4CAF-9606-6B9C948E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68B-F895-48F6-95B2-5310894E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60C-E403-4161-839B-8B415259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96B-F174-46E2-B5D4-FD0E0437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0FC-B8AE-426E-8940-59BE8159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4DDA-0601-4CEA-B5E6-F6839021E38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E00D-661C-45A2-9DCA-7792EEEFE0D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 Rounded MT Bold"/>
              </a:rPr>
              <a:t>PARALELIPIPEDUL DREPTUNGHIC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brudan Da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delean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Mădăli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Badea Cristi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000000"/>
                </a:solidFill>
                <a:latin typeface="Comic Sans MS"/>
              </a:rPr>
              <a:t>Def:Este prisma care are 2 baze dreptunghiuri congruente şi situate în plane paralele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1982880"/>
            <a:ext cx="6048720" cy="37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63280" y="404640"/>
            <a:ext cx="554508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2 baze dreptungice ega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4fe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ţe laterale,cele opuse egale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-muchiile bazelor L,l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-muchi laterale 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34920" y="549360"/>
            <a:ext cx="4746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619272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316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219640" y="259920"/>
            <a:ext cx="31622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=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2(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h+l·h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=L·l·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2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51134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6229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mic Sans MS"/>
              </a:rPr>
              <a:t>PROBLEM</a:t>
            </a:r>
            <a:r>
              <a:rPr b="0" lang="ro-RO" sz="5600" spc="-1" strike="noStrike">
                <a:solidFill>
                  <a:srgbClr val="000000"/>
                </a:solidFill>
                <a:latin typeface="Comic Sans MS"/>
              </a:rPr>
              <a:t>Ă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În paralipipedul dreptunghic ABCD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’B’C’D’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dau AB=6cm,BC=16cm D’M=26cm,unde M este mijlocul muchiei [BC].S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ă se determine volumul paralipipedulu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omic Sans MS"/>
              </a:rPr>
              <a:t>Culegere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,,</a:t>
            </a:r>
            <a:r>
              <a:rPr b="0" i="1" lang="ro-RO" sz="1800" spc="-1" strike="noStrike">
                <a:solidFill>
                  <a:srgbClr val="000000"/>
                </a:solidFill>
                <a:latin typeface="Comic Sans MS"/>
              </a:rPr>
              <a:t>Matematică pentru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ro-RO" sz="1800" spc="-1" strike="noStrike">
                <a:solidFill>
                  <a:srgbClr val="000000"/>
                </a:solidFill>
                <a:latin typeface="Comic Sans MS"/>
              </a:rPr>
              <a:t>valuarea natională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”  pg.149 Varianta 17 Subiectu al II-lea ex.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0:21:59Z</dcterms:created>
  <dc:creator>xxx</dc:creator>
  <dc:description/>
  <dc:language>en-US</dc:language>
  <cp:lastModifiedBy>user</cp:lastModifiedBy>
  <dcterms:modified xsi:type="dcterms:W3CDTF">2011-02-14T13:13:39Z</dcterms:modified>
  <cp:revision>4</cp:revision>
  <dc:subject/>
  <dc:title>PARALELIPIPEDUL DREPTUNGHIC</dc:title>
</cp:coreProperties>
</file>